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2BE-46B7-4523-B5DD-46F3BCD0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5C7-2F3C-463B-ABA4-4844E3C0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D0B-CE87-4F84-8B95-01AEDE8D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829-BD8F-479B-B658-63BEDC72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3CA-3A95-48E6-A340-4563E7A7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26B-E2C1-4E1C-97DF-6C790262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642-C490-463E-922F-07B049D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918-1BC4-42DC-B79A-8CE5B26E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064-EB5B-4723-9A84-D6DC30BB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1EE-31C8-4824-B862-1E01F8D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E72-9205-437E-9190-F4EDB7E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170-4F34-4545-AC94-80C151A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96C4-2FDA-452C-85C3-9E76D0BD70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390400"/>
            <a:ext cx="5656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4:44Z</dcterms:modified>
  <cp:revision>745</cp:revision>
  <dc:subject/>
  <dc:title>Diapositiva 1</dc:title>
</cp:coreProperties>
</file>